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645B-202C-4080-8856-5AA46C9E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B4B2-7E6D-472C-8EE9-84B5F3E4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11E5-8DC9-4970-8A40-C783A839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C8D7-2905-48D1-AF09-CBA33609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E9D7-DF0C-472F-BD45-BB858AB5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44FB-7F0D-41E1-BCC5-683C1572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0D21-AAEE-41FC-8B2C-9ED259F3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3657-E33A-4A4F-879E-A8B047FA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84320" y="-132840"/>
            <a:ext cx="4400640" cy="43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60B0-502A-42B2-9AA4-957C7CED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DC23-8D03-4CE4-8B6C-1465AA66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5043-07F1-435C-8877-B29AD09A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E381-7FA5-470A-B899-5030F928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9051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0152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2057040" y="657216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03584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08A4-ABC1-4A12-8C9D-E79AABA7A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66ff"/>
            </a:solidFill>
            <a:miter/>
          </a:ln>
          <a:effectLst>
            <a:outerShdw dist="56832" dir="1459635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9320" y="152280"/>
            <a:ext cx="1834920" cy="1312920"/>
            <a:chOff x="49320" y="152280"/>
            <a:chExt cx="1834920" cy="1312920"/>
          </a:xfrm>
        </p:grpSpPr>
        <p:sp>
          <p:nvSpPr>
            <p:cNvPr id="6" name=""/>
            <p:cNvSpPr/>
            <p:nvPr/>
          </p:nvSpPr>
          <p:spPr>
            <a:xfrm>
              <a:off x="304920" y="1066680"/>
              <a:ext cx="380880" cy="398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2280" y="1066680"/>
              <a:ext cx="457200" cy="322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9320" y="1066680"/>
              <a:ext cx="484200" cy="193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9200" y="152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" name="" descr=""/>
            <p:cNvPicPr/>
            <p:nvPr/>
          </p:nvPicPr>
          <p:blipFill>
            <a:blip r:embed="rId3"/>
            <a:stretch/>
          </p:blipFill>
          <p:spPr>
            <a:xfrm>
              <a:off x="609480" y="152280"/>
              <a:ext cx="127476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609480" y="990720"/>
              <a:ext cx="9144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33520" y="457200"/>
              <a:ext cx="6858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" name="" descr=""/>
            <p:cNvPicPr/>
            <p:nvPr/>
          </p:nvPicPr>
          <p:blipFill>
            <a:blip r:embed="rId4"/>
            <a:stretch/>
          </p:blipFill>
          <p:spPr>
            <a:xfrm>
              <a:off x="631800" y="380880"/>
              <a:ext cx="511200" cy="89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668680"/>
            <a:ext cx="2384280" cy="4189320"/>
            <a:chOff x="0" y="2668680"/>
            <a:chExt cx="2384280" cy="4189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0" y="3495600"/>
              <a:ext cx="2384280" cy="33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6720" y="2668680"/>
              <a:ext cx="195480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Wet samples m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 ‘</a:t>
              </a: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in situ’ in bio re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(Saskatoon, S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rcRect l="3880" t="4094" r="3800" b="2485"/>
          <a:stretch/>
        </p:blipFill>
        <p:spPr>
          <a:xfrm>
            <a:off x="2874960" y="476280"/>
            <a:ext cx="1541520" cy="1370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2879640" y="150660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00 </a:t>
            </a:r>
            <a:r>
              <a:rPr b="1" lang="en-US" sz="1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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267080"/>
            <a:ext cx="228600" cy="2286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857680" y="696960"/>
            <a:ext cx="1557000" cy="6157800"/>
            <a:chOff x="2857680" y="696960"/>
            <a:chExt cx="1557000" cy="6157800"/>
          </a:xfrm>
        </p:grpSpPr>
        <p:pic>
          <p:nvPicPr>
            <p:cNvPr id="58" name="" descr=""/>
            <p:cNvPicPr/>
            <p:nvPr/>
          </p:nvPicPr>
          <p:blipFill>
            <a:blip r:embed="rId3"/>
            <a:srcRect l="0" t="23587" r="4170" b="0"/>
            <a:stretch/>
          </p:blipFill>
          <p:spPr>
            <a:xfrm>
              <a:off x="2857680" y="1959120"/>
              <a:ext cx="1314360" cy="48956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59" name=""/>
            <p:cNvSpPr/>
            <p:nvPr/>
          </p:nvSpPr>
          <p:spPr>
            <a:xfrm>
              <a:off x="3995640" y="696960"/>
              <a:ext cx="419040" cy="115236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610080" y="409680"/>
            <a:ext cx="5148000" cy="4151160"/>
            <a:chOff x="3610080" y="409680"/>
            <a:chExt cx="5148000" cy="415116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4513320" y="409680"/>
              <a:ext cx="4244760" cy="4151160"/>
            </a:xfrm>
            <a:prstGeom prst="rect">
              <a:avLst/>
            </a:prstGeom>
            <a:ln w="28440">
              <a:solidFill>
                <a:srgbClr val="00ff00"/>
              </a:solidFill>
              <a:miter/>
            </a:ln>
          </p:spPr>
        </p:pic>
        <p:sp>
          <p:nvSpPr>
            <p:cNvPr id="62" name=""/>
            <p:cNvSpPr/>
            <p:nvPr/>
          </p:nvSpPr>
          <p:spPr>
            <a:xfrm>
              <a:off x="5670000" y="4178160"/>
              <a:ext cx="64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Prop BT"/>
                  <a:ea typeface="SymbolProp BT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10080" y="3876840"/>
              <a:ext cx="314280" cy="323640"/>
            </a:xfrm>
            <a:prstGeom prst="rect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0" y="0"/>
            <a:ext cx="3402000" cy="528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9360">
            <a:solidFill>
              <a:srgbClr val="0066ff"/>
            </a:solidFill>
            <a:miter/>
          </a:ln>
          <a:effectLst>
            <a:outerShdw dist="56832" dir="1459635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TXM of wet biofilms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13320" y="4648320"/>
            <a:ext cx="2209680" cy="2209680"/>
            <a:chOff x="4513320" y="4648320"/>
            <a:chExt cx="2209680" cy="2209680"/>
          </a:xfrm>
        </p:grpSpPr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4513320" y="4657680"/>
              <a:ext cx="2209680" cy="2200320"/>
            </a:xfrm>
            <a:prstGeom prst="rect">
              <a:avLst/>
            </a:prstGeom>
            <a:ln w="28440">
              <a:solidFill>
                <a:srgbClr val="00ff00"/>
              </a:solidFill>
              <a:miter/>
            </a:ln>
          </p:spPr>
        </p:pic>
        <p:sp>
          <p:nvSpPr>
            <p:cNvPr id="67" name=""/>
            <p:cNvSpPr/>
            <p:nvPr/>
          </p:nvSpPr>
          <p:spPr>
            <a:xfrm>
              <a:off x="4528080" y="4648320"/>
              <a:ext cx="8514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Comic Sans MS"/>
                </a:rPr>
                <a:t>Fe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, </a:t>
              </a:r>
              <a:r>
                <a:rPr b="1" lang="en-US" sz="1800" spc="-1" strike="noStrike">
                  <a:solidFill>
                    <a:srgbClr val="0033cc"/>
                  </a:solidFill>
                  <a:latin typeface="Comic Sans MS"/>
                </a:rPr>
                <a:t>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144960" y="3576600"/>
            <a:ext cx="5636520" cy="3233880"/>
            <a:chOff x="3144960" y="3576600"/>
            <a:chExt cx="5636520" cy="3233880"/>
          </a:xfrm>
        </p:grpSpPr>
        <p:grpSp>
          <p:nvGrpSpPr>
            <p:cNvPr id="69" name=""/>
            <p:cNvGrpSpPr/>
            <p:nvPr/>
          </p:nvGrpSpPr>
          <p:grpSpPr>
            <a:xfrm>
              <a:off x="3144960" y="3576600"/>
              <a:ext cx="5618160" cy="3233880"/>
              <a:chOff x="3144960" y="3576600"/>
              <a:chExt cx="5618160" cy="3233880"/>
            </a:xfrm>
          </p:grpSpPr>
          <p:pic>
            <p:nvPicPr>
              <p:cNvPr id="70" name="" descr=""/>
              <p:cNvPicPr/>
              <p:nvPr/>
            </p:nvPicPr>
            <p:blipFill>
              <a:blip r:embed="rId7"/>
              <a:srcRect l="30363" t="6837" r="12824" b="28277"/>
              <a:stretch/>
            </p:blipFill>
            <p:spPr>
              <a:xfrm>
                <a:off x="6827760" y="4657680"/>
                <a:ext cx="1935360" cy="215280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7540560" y="5254560"/>
                <a:ext cx="1135080" cy="1098720"/>
              </a:xfrm>
              <a:prstGeom prst="rect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144960" y="3576600"/>
                <a:ext cx="1008000" cy="934920"/>
              </a:xfrm>
              <a:prstGeom prst="rect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7979040" y="4638600"/>
              <a:ext cx="80244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C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71000" y="1523880"/>
            <a:ext cx="2437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0000"/>
                </a:solidFill>
                <a:latin typeface="Comic Sans MS"/>
              </a:rPr>
              <a:t>Adam Hitchcock, Jay Dy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omic Sans MS"/>
              </a:rPr>
              <a:t>McMaster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Comic Sans MS"/>
              </a:rPr>
              <a:t>John Lawwrenc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Comic Sans MS"/>
              </a:rPr>
              <a:t>George Swer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omic Sans MS"/>
              </a:rPr>
              <a:t>NW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198108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0"/>
            <a:ext cx="4724640" cy="528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66ff"/>
            </a:solidFill>
            <a:miter/>
          </a:ln>
          <a:effectLst>
            <a:outerShdw dist="56832" dir="1459635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iological mapping in biofilms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821200" y="3657600"/>
            <a:ext cx="2733840" cy="2855880"/>
            <a:chOff x="5821200" y="3657600"/>
            <a:chExt cx="2733840" cy="285588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5940360" y="3994200"/>
              <a:ext cx="252900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821200" y="3657600"/>
              <a:ext cx="27338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Protein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polysaccharide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  ‘</a:t>
              </a:r>
              <a:r>
                <a:rPr b="1" lang="en-US" sz="1400" spc="-1" strike="noStrike">
                  <a:solidFill>
                    <a:srgbClr val="0066ff"/>
                  </a:solidFill>
                  <a:latin typeface="Times New Roman"/>
                </a:rPr>
                <a:t>lipi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978520" y="533520"/>
            <a:ext cx="2575800" cy="2945160"/>
            <a:chOff x="5978520" y="533520"/>
            <a:chExt cx="2575800" cy="2945160"/>
          </a:xfrm>
        </p:grpSpPr>
        <p:pic>
          <p:nvPicPr>
            <p:cNvPr id="81" name="" descr=""/>
            <p:cNvPicPr/>
            <p:nvPr/>
          </p:nvPicPr>
          <p:blipFill>
            <a:blip r:embed="rId3"/>
            <a:srcRect l="1323" t="0" r="0" b="0"/>
            <a:stretch/>
          </p:blipFill>
          <p:spPr>
            <a:xfrm>
              <a:off x="5978520" y="925560"/>
              <a:ext cx="249372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8098560" y="3295800"/>
              <a:ext cx="403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-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112960" y="920880"/>
              <a:ext cx="441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1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29280" y="533520"/>
              <a:ext cx="1012680" cy="35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Times New Roman"/>
                </a:rPr>
                <a:t>polysacchar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276720" y="3657600"/>
            <a:ext cx="2561040" cy="2895840"/>
            <a:chOff x="3276720" y="3657600"/>
            <a:chExt cx="2561040" cy="2895840"/>
          </a:xfrm>
        </p:grpSpPr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3276720" y="3993840"/>
              <a:ext cx="2506320" cy="25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434560" y="6370560"/>
              <a:ext cx="403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-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77320" y="3993840"/>
              <a:ext cx="441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2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08400" y="3657600"/>
              <a:ext cx="567720" cy="277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‘</a:t>
              </a: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lipi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267000" y="533520"/>
            <a:ext cx="2623320" cy="2945160"/>
            <a:chOff x="3267000" y="533520"/>
            <a:chExt cx="2623320" cy="2945160"/>
          </a:xfrm>
        </p:grpSpPr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3267000" y="947880"/>
              <a:ext cx="251928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427200" y="159084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6480" y="3295800"/>
              <a:ext cx="2674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48960" y="920880"/>
              <a:ext cx="441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3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9440" y="533520"/>
              <a:ext cx="6447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Prote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95080" y="1335240"/>
              <a:ext cx="54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Prop BT"/>
                  <a:ea typeface="SymbolProp BT"/>
                </a:rPr>
                <a:t>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0" y="2514600"/>
            <a:ext cx="7010280" cy="4343400"/>
            <a:chOff x="0" y="2514600"/>
            <a:chExt cx="7010280" cy="4343400"/>
          </a:xfrm>
        </p:grpSpPr>
        <p:sp>
          <p:nvSpPr>
            <p:cNvPr id="98" name=""/>
            <p:cNvSpPr/>
            <p:nvPr/>
          </p:nvSpPr>
          <p:spPr>
            <a:xfrm>
              <a:off x="0" y="2514600"/>
              <a:ext cx="2743200" cy="434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92040" y="4221000"/>
              <a:ext cx="6618240" cy="2594160"/>
              <a:chOff x="392040" y="4221000"/>
              <a:chExt cx="6618240" cy="25941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392040" y="4601880"/>
                <a:ext cx="2084040" cy="2213280"/>
                <a:chOff x="392040" y="4601880"/>
                <a:chExt cx="2084040" cy="2213280"/>
              </a:xfrm>
            </p:grpSpPr>
            <p:pic>
              <p:nvPicPr>
                <p:cNvPr id="1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9960" y="4906800"/>
                  <a:ext cx="1585800" cy="159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>
                  <a:off x="728640" y="6252840"/>
                  <a:ext cx="43200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09480" y="6232320"/>
                  <a:ext cx="7081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200" spc="-1" strike="noStrike">
                      <a:solidFill>
                        <a:srgbClr val="ffffff"/>
                      </a:solidFill>
                      <a:latin typeface="Arial"/>
                    </a:rPr>
                    <a:t>500 n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57200" y="4601880"/>
                  <a:ext cx="19713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400" spc="-1" strike="noStrike">
                      <a:solidFill>
                        <a:srgbClr val="ff0000"/>
                      </a:solidFill>
                      <a:latin typeface="Times New Roman"/>
                    </a:rPr>
                    <a:t>Protein</a:t>
                  </a:r>
                  <a:r>
                    <a:rPr b="1" lang="en-CA" sz="1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1" lang="en-CA" sz="1400" spc="-1" strike="noStrike">
                      <a:solidFill>
                        <a:srgbClr val="009900"/>
                      </a:solidFill>
                      <a:latin typeface="Times New Roman"/>
                    </a:rPr>
                    <a:t>‘lipid’ </a:t>
                  </a:r>
                  <a:r>
                    <a:rPr b="1" lang="en-CA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CA" sz="1400" spc="-1" strike="noStrike">
                      <a:solidFill>
                        <a:srgbClr val="0033cc"/>
                      </a:solidFill>
                      <a:latin typeface="Times New Roman"/>
                    </a:rPr>
                    <a:t>CaCO</a:t>
                  </a:r>
                  <a:r>
                    <a:rPr b="1" lang="en-CA" sz="14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92040" y="6405120"/>
                  <a:ext cx="2084040" cy="41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600" spc="-1" strike="noStrike">
                      <a:solidFill>
                        <a:srgbClr val="000000"/>
                      </a:solidFill>
                      <a:latin typeface="Comic Sans MS"/>
                    </a:rPr>
                    <a:t>bacterial "armour" ?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286000" y="4221000"/>
                <a:ext cx="4724280" cy="1066680"/>
                <a:chOff x="2286000" y="4221000"/>
                <a:chExt cx="4724280" cy="10666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553080" y="4221000"/>
                  <a:ext cx="457200" cy="380880"/>
                </a:xfrm>
                <a:prstGeom prst="rect">
                  <a:avLst/>
                </a:prstGeom>
                <a:noFill/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V="1">
                  <a:off x="2286000" y="4373280"/>
                  <a:ext cx="4267080" cy="9144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9" name=""/>
          <p:cNvGrpSpPr/>
          <p:nvPr/>
        </p:nvGrpSpPr>
        <p:grpSpPr>
          <a:xfrm>
            <a:off x="176760" y="0"/>
            <a:ext cx="2453760" cy="4610160"/>
            <a:chOff x="176760" y="0"/>
            <a:chExt cx="2453760" cy="4610160"/>
          </a:xfrm>
        </p:grpSpPr>
        <p:graphicFrame>
          <p:nvGraphicFramePr>
            <p:cNvPr id="110" name=""/>
            <p:cNvGraphicFramePr/>
            <p:nvPr/>
          </p:nvGraphicFramePr>
          <p:xfrm>
            <a:off x="358920" y="318960"/>
            <a:ext cx="2271600" cy="4291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8920" y="318960"/>
                      <a:ext cx="2271600" cy="429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176760" y="0"/>
              <a:ext cx="245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reference spectra (interna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051000" y="6573960"/>
            <a:ext cx="564912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R. Lawrence et al   Applied Environmental Microbiology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6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5543-555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17:21:13Z</dcterms:created>
  <dc:creator>Adam P. Hitchcock</dc:creator>
  <dc:description/>
  <dc:language>en-US</dc:language>
  <cp:lastModifiedBy>Adam Hitchcock</cp:lastModifiedBy>
  <cp:lastPrinted>1999-09-17T00:03:46Z</cp:lastPrinted>
  <dcterms:modified xsi:type="dcterms:W3CDTF">2023-05-07T20:32:51Z</dcterms:modified>
  <cp:revision>540</cp:revision>
  <dc:subject/>
  <dc:title>No Slide Title</dc:title>
</cp:coreProperties>
</file>