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6.wmf" ContentType="image/x-wmf"/>
  <Override PartName="/ppt/media/image46.png" ContentType="image/png"/>
  <Override PartName="/ppt/media/image36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31E0-B47F-4432-8821-5369E5CA3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RF-STXM-details.pdf  10 Feb 2013  - elastic scatter (angle) never publ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– insert) Image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628033  (1700 EV, circle is known as hot sp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Polarization dependence : XGLabd (txt)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00628012.dta to 100628019.dta   (20 is 300 sec also at 1700 eV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) from excel fil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RF-elastic-signal-Jun2010.x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nvi_Sci_Tech (2012) Fig. 3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_Sci_Tech (2012) Fig. 3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SXM-London-2012.ppt   WHAT IS PUBLISHED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 Stxm11\2010\10-10\10-02\001     Y:\data\XRM\stxm-11\2010\10-10\10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XRM\stxm-11\2010\10-10\10-02\003   stack of stacks (bit integrated XR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-d)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ized ref. spectra from  Geochim_Cosmochim_Acta_72_2008_3949-As-NEXAFS-acid-mines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XRF-yield NEXAFS:   stxm11\2010\10-10\10-03\03-02\003        Y:\data\XRM\stxm-11\2010\10-10\10-02\11_10100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S Feb 2012   stack A120205008  (*.ssb – all XRF saved)  stack  stack A120205046 – channels only (but Mg / A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120205044 area for stack 46 (lower slits &amp; flux; PMT, 1 ms d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876560" y="8488440"/>
            <a:ext cx="177012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0" y="8762400"/>
            <a:ext cx="161784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280" y="1066680"/>
          <a:ext cx="3306960" cy="23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3306960" cy="23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" name=""/>
          <p:cNvGrpSpPr/>
          <p:nvPr/>
        </p:nvGrpSpPr>
        <p:grpSpPr>
          <a:xfrm>
            <a:off x="762120" y="1219320"/>
            <a:ext cx="1143000" cy="1181160"/>
            <a:chOff x="762120" y="1219320"/>
            <a:chExt cx="1143000" cy="1181160"/>
          </a:xfrm>
        </p:grpSpPr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762120" y="1219320"/>
              <a:ext cx="114300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285200" y="1887840"/>
              <a:ext cx="87120" cy="8892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742320" y="20574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65640" y="12049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505320" y="1066680"/>
          <a:ext cx="2824200" cy="200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05320" y="1066680"/>
                    <a:ext cx="282420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595440" y="773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11680" y="8380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352680" y="3352680"/>
          <a:ext cx="3200400" cy="2283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52680" y="3352680"/>
                    <a:ext cx="3200400" cy="22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80880" y="3505320"/>
          <a:ext cx="3124440" cy="2208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880" y="3505320"/>
                    <a:ext cx="312444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595440" y="32115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19880" y="32115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0" y="8762400"/>
            <a:ext cx="161784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53"/>
          <p:cNvGraphicFramePr/>
          <p:nvPr/>
        </p:nvGraphicFramePr>
        <p:xfrm>
          <a:off x="0" y="609480"/>
          <a:ext cx="384192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38419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 Box 46"/>
          <p:cNvSpPr/>
          <p:nvPr/>
        </p:nvSpPr>
        <p:spPr>
          <a:xfrm>
            <a:off x="4082400" y="264960"/>
            <a:ext cx="2363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  <a:ea typeface="MS PGothic"/>
              </a:rPr>
              <a:t>Fe map  </a:t>
            </a:r>
            <a:r>
              <a:rPr b="1" lang="en-US" sz="1400" spc="-1" strike="noStrike">
                <a:solidFill>
                  <a:srgbClr val="008000"/>
                </a:solidFill>
                <a:latin typeface="Comic Sans MS"/>
                <a:ea typeface="MS PGothic"/>
              </a:rPr>
              <a:t>bio map (pre-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5"/>
          <p:cNvSpPr/>
          <p:nvPr/>
        </p:nvSpPr>
        <p:spPr>
          <a:xfrm>
            <a:off x="4267080" y="3129120"/>
            <a:ext cx="533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56"/>
          <p:cNvGrpSpPr/>
          <p:nvPr/>
        </p:nvGrpSpPr>
        <p:grpSpPr>
          <a:xfrm>
            <a:off x="3962520" y="609480"/>
            <a:ext cx="2736720" cy="3124080"/>
            <a:chOff x="3962520" y="609480"/>
            <a:chExt cx="2736720" cy="3124080"/>
          </a:xfrm>
        </p:grpSpPr>
        <p:pic>
          <p:nvPicPr>
            <p:cNvPr id="69" name="Picture 57" descr=""/>
            <p:cNvPicPr/>
            <p:nvPr/>
          </p:nvPicPr>
          <p:blipFill>
            <a:blip r:embed="rId3"/>
            <a:stretch/>
          </p:blipFill>
          <p:spPr>
            <a:xfrm>
              <a:off x="3962520" y="609480"/>
              <a:ext cx="27367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Line 58"/>
            <p:cNvSpPr/>
            <p:nvPr/>
          </p:nvSpPr>
          <p:spPr>
            <a:xfrm>
              <a:off x="4419360" y="3428640"/>
              <a:ext cx="4568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59"/>
          <p:cNvSpPr/>
          <p:nvPr/>
        </p:nvSpPr>
        <p:spPr>
          <a:xfrm>
            <a:off x="4363560" y="304812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2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7"/>
          <p:cNvSpPr/>
          <p:nvPr/>
        </p:nvSpPr>
        <p:spPr>
          <a:xfrm>
            <a:off x="5334120" y="2362320"/>
            <a:ext cx="83808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2" descr=""/>
          <p:cNvPicPr/>
          <p:nvPr/>
        </p:nvPicPr>
        <p:blipFill>
          <a:blip r:embed="rId4"/>
          <a:stretch/>
        </p:blipFill>
        <p:spPr>
          <a:xfrm>
            <a:off x="4108320" y="7132680"/>
            <a:ext cx="2505240" cy="15904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2"/>
          <p:cNvSpPr/>
          <p:nvPr/>
        </p:nvSpPr>
        <p:spPr>
          <a:xfrm>
            <a:off x="4776120" y="7165800"/>
            <a:ext cx="1174320" cy="21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MS PGothic"/>
              </a:rPr>
              <a:t>As </a:t>
            </a:r>
            <a:r>
              <a:rPr b="1" lang="en-US" sz="1400" spc="-1" strike="noStrike">
                <a:solidFill>
                  <a:srgbClr val="00cc00"/>
                </a:solidFill>
                <a:latin typeface="Comic Sans MS"/>
                <a:ea typeface="MS PGothic"/>
              </a:rPr>
              <a:t>Fe</a:t>
            </a:r>
            <a:r>
              <a:rPr b="1" lang="en-US" sz="1400" spc="-1" strike="noStrike">
                <a:solidFill>
                  <a:srgbClr val="00ff00"/>
                </a:solidFill>
                <a:latin typeface="Comic Sans MS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Comic Sans MS"/>
                <a:ea typeface="MS PGothic"/>
              </a:rPr>
              <a:t>As/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8"/>
          <p:cNvSpPr/>
          <p:nvPr/>
        </p:nvSpPr>
        <p:spPr>
          <a:xfrm>
            <a:off x="6089760" y="8537400"/>
            <a:ext cx="333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5848200" y="823284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4" descr=""/>
          <p:cNvPicPr/>
          <p:nvPr/>
        </p:nvPicPr>
        <p:blipFill>
          <a:blip r:embed="rId5"/>
          <a:stretch/>
        </p:blipFill>
        <p:spPr>
          <a:xfrm>
            <a:off x="4114800" y="3809880"/>
            <a:ext cx="2505240" cy="1594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2"/>
          <p:cNvSpPr/>
          <p:nvPr/>
        </p:nvSpPr>
        <p:spPr>
          <a:xfrm>
            <a:off x="4919400" y="37735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Arse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96"/>
          <p:cNvGrpSpPr/>
          <p:nvPr/>
        </p:nvGrpSpPr>
        <p:grpSpPr>
          <a:xfrm>
            <a:off x="6240240" y="3770280"/>
            <a:ext cx="384840" cy="1686960"/>
            <a:chOff x="6240240" y="3770280"/>
            <a:chExt cx="384840" cy="1686960"/>
          </a:xfrm>
        </p:grpSpPr>
        <p:pic>
          <p:nvPicPr>
            <p:cNvPr id="80" name="Picture 97" descr=""/>
            <p:cNvPicPr/>
            <p:nvPr/>
          </p:nvPicPr>
          <p:blipFill>
            <a:blip r:embed="rId6"/>
            <a:stretch/>
          </p:blipFill>
          <p:spPr>
            <a:xfrm>
              <a:off x="6318360" y="4041720"/>
              <a:ext cx="228600" cy="114156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sp>
          <p:nvSpPr>
            <p:cNvPr id="81" name="Text Box 32"/>
            <p:cNvSpPr/>
            <p:nvPr/>
          </p:nvSpPr>
          <p:spPr>
            <a:xfrm>
              <a:off x="6240240" y="37702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6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2"/>
            <p:cNvSpPr/>
            <p:nvPr/>
          </p:nvSpPr>
          <p:spPr>
            <a:xfrm>
              <a:off x="6291000" y="51501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Picture 22" descr=""/>
          <p:cNvPicPr/>
          <p:nvPr/>
        </p:nvPicPr>
        <p:blipFill>
          <a:blip r:embed="rId7"/>
          <a:srcRect l="537" t="0" r="0" b="0"/>
          <a:stretch/>
        </p:blipFill>
        <p:spPr>
          <a:xfrm>
            <a:off x="4119480" y="5484960"/>
            <a:ext cx="2492280" cy="15904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8"/>
          <p:cNvSpPr/>
          <p:nvPr/>
        </p:nvSpPr>
        <p:spPr>
          <a:xfrm>
            <a:off x="5074560" y="55022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I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76"/>
          <p:cNvGrpSpPr/>
          <p:nvPr/>
        </p:nvGrpSpPr>
        <p:grpSpPr>
          <a:xfrm>
            <a:off x="6201720" y="5446800"/>
            <a:ext cx="487080" cy="1686600"/>
            <a:chOff x="6201720" y="5446800"/>
            <a:chExt cx="487080" cy="1686600"/>
          </a:xfrm>
        </p:grpSpPr>
        <p:pic>
          <p:nvPicPr>
            <p:cNvPr id="86" name="Picture 77" descr=""/>
            <p:cNvPicPr/>
            <p:nvPr/>
          </p:nvPicPr>
          <p:blipFill>
            <a:blip r:embed="rId8"/>
            <a:stretch/>
          </p:blipFill>
          <p:spPr>
            <a:xfrm>
              <a:off x="6332400" y="5718240"/>
              <a:ext cx="226800" cy="114120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sp>
          <p:nvSpPr>
            <p:cNvPr id="87" name="Text Box 32"/>
            <p:cNvSpPr/>
            <p:nvPr/>
          </p:nvSpPr>
          <p:spPr>
            <a:xfrm>
              <a:off x="6201720" y="5446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13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32"/>
            <p:cNvSpPr/>
            <p:nvPr/>
          </p:nvSpPr>
          <p:spPr>
            <a:xfrm>
              <a:off x="6303600" y="68263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71760" y="56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39920" y="685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660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16240" y="5500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6600" y="710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1932120" cy="2157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67400" y="457200"/>
            <a:ext cx="2190600" cy="2362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00240" y="8806680"/>
            <a:ext cx="177012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28800" y="289548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2160" y="1522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7760" y="6094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63520" y="2316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3960" y="152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4840" y="28195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onsta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45760" y="1941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s-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2400" y="7621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666880" y="533520"/>
            <a:ext cx="1936800" cy="2162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135320" y="6858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25680" y="23922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33520" y="3352680"/>
            <a:ext cx="1954080" cy="2159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134080" y="3429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05280" y="51354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14440" y="3636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 /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2666880" y="3352680"/>
            <a:ext cx="1928880" cy="2160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882880" y="29322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4724280" y="3352680"/>
            <a:ext cx="2019600" cy="215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457200" y="5877000"/>
            <a:ext cx="1400040" cy="1474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457200" y="7705800"/>
            <a:ext cx="1386000" cy="1438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44240" y="72849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1760" y="55227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2286000" y="57150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946040" y="7848720"/>
            <a:ext cx="136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 6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/III           2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36720" y="7924680"/>
            <a:ext cx="131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6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/III        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4572000" y="56386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05320" y="457200"/>
            <a:ext cx="320652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73480" y="8609760"/>
            <a:ext cx="253224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-XRF-mapping - r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1938240" cy="1710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44960" y="112680"/>
            <a:ext cx="29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 signal from XRF y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ly composition ? MgO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53760" y="36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RF-yield NEXA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72160" y="493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29560" y="798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29720" y="1574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00920" y="18432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s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648320" y="3048120"/>
            <a:ext cx="2023920" cy="1850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091840" y="270360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(V) scorod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362320" y="3048120"/>
            <a:ext cx="2100240" cy="193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668680" y="274320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s(III) tooe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228600" y="2971800"/>
            <a:ext cx="2071800" cy="1901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24160" y="257508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MgO (from XRF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3733920" y="5334120"/>
            <a:ext cx="2749320" cy="2909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87280" y="495288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380880" y="6400800"/>
            <a:ext cx="2246400" cy="2252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297800" y="794844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48120" y="682632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7200" y="5257800"/>
            <a:ext cx="36295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ized ref. spectra from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chim_Cosmochim_A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2_2008_3949-As-NEXAFS-acid-mine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2280" y="7315200"/>
            <a:ext cx="2133720" cy="1725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-XRF-mapping – fits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1360440" cy="1440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420800" y="198108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267080" y="5562720"/>
            <a:ext cx="2246400" cy="2252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184000" y="711036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34320" y="598788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80880" y="457200"/>
            <a:ext cx="1303560" cy="1440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4960" y="763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24440" y="4143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80600" y="1676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1752480" y="457200"/>
            <a:ext cx="1289160" cy="1440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743560" y="4446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99720" y="1706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83240" y="152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3276720" y="457200"/>
            <a:ext cx="1292040" cy="1440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128040" y="763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onsta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4618080" y="2590920"/>
            <a:ext cx="168912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rcRect l="3710" t="0" r="0" b="0"/>
          <a:stretch/>
        </p:blipFill>
        <p:spPr>
          <a:xfrm>
            <a:off x="2057400" y="2362320"/>
            <a:ext cx="1981080" cy="2057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50812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300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9"/>
          <a:srcRect l="3710" t="0" r="0" b="0"/>
          <a:stretch/>
        </p:blipFill>
        <p:spPr>
          <a:xfrm>
            <a:off x="220680" y="2438280"/>
            <a:ext cx="1760400" cy="1828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152280" y="5410080"/>
            <a:ext cx="1905120" cy="1720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45680" y="202572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41160" y="20574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4648320"/>
            <a:ext cx="237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 range to 1380 eV &amp; Smoothing ref. spectra will improve 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040" y="80773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1"/>
          <a:stretch/>
        </p:blipFill>
        <p:spPr>
          <a:xfrm>
            <a:off x="2438280" y="7086600"/>
            <a:ext cx="2057400" cy="1862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897280" y="792468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62485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I-rich &amp; V-rich pectra differ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2133720" cy="17258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-XRF-mapping – fits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267080" y="5562720"/>
            <a:ext cx="2246400" cy="22525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184000" y="711036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34320" y="598788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812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300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52280" y="5410080"/>
            <a:ext cx="3505320" cy="3167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45680" y="202572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41160" y="20574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228600"/>
            <a:ext cx="237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 range to 1380 eV &amp; Smoothing ref. spectra will improve 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2000" y="1143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2514600" y="152280"/>
            <a:ext cx="2057400" cy="1862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973600" y="99072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7543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II-ri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V-ri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tra differ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0520" y="-3960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re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2666880" y="2514600"/>
            <a:ext cx="1735200" cy="1828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457200" y="2514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785840" y="247500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30800" y="483696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RF-yield red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29200" y="8381880"/>
            <a:ext cx="16178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S_Feb2012_Mg_As_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30040" y="49320"/>
            <a:ext cx="520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 of use of stacks~analyse~XRF-stack-of-st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567240" cy="23576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51200" y="25257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3840" y="746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809880" y="3200400"/>
            <a:ext cx="2190960" cy="2438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100760" y="3363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342900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ll p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71640" y="51926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47960" y="450684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52280" y="3276720"/>
            <a:ext cx="2664000" cy="2514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1600200" y="3124080"/>
            <a:ext cx="2209680" cy="1419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057400" y="3427560"/>
            <a:ext cx="533520" cy="1068120"/>
          </a:xfrm>
          <a:custGeom>
            <a:avLst/>
            <a:gdLst/>
            <a:ahLst/>
            <a:rect l="l" t="t" r="r" b="b"/>
            <a:pathLst>
              <a:path w="336" h="673">
                <a:moveTo>
                  <a:pt x="0" y="673"/>
                </a:moveTo>
                <a:lnTo>
                  <a:pt x="0" y="577"/>
                </a:lnTo>
                <a:cubicBezTo>
                  <a:pt x="24" y="545"/>
                  <a:pt x="104" y="553"/>
                  <a:pt x="144" y="481"/>
                </a:cubicBezTo>
                <a:cubicBezTo>
                  <a:pt x="184" y="409"/>
                  <a:pt x="211" y="225"/>
                  <a:pt x="240" y="145"/>
                </a:cubicBezTo>
                <a:cubicBezTo>
                  <a:pt x="269" y="65"/>
                  <a:pt x="305" y="19"/>
                  <a:pt x="317" y="0"/>
                </a:cubicBezTo>
                <a:lnTo>
                  <a:pt x="312" y="30"/>
                </a:lnTo>
                <a:lnTo>
                  <a:pt x="336" y="673"/>
                </a:lnTo>
                <a:lnTo>
                  <a:pt x="0" y="673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50960" y="3151080"/>
            <a:ext cx="801720" cy="1344600"/>
          </a:xfrm>
          <a:custGeom>
            <a:avLst/>
            <a:gdLst/>
            <a:ahLst/>
            <a:rect l="l" t="t" r="r" b="b"/>
            <a:pathLst>
              <a:path w="505" h="847">
                <a:moveTo>
                  <a:pt x="25" y="847"/>
                </a:moveTo>
                <a:lnTo>
                  <a:pt x="505" y="847"/>
                </a:lnTo>
                <a:lnTo>
                  <a:pt x="505" y="751"/>
                </a:lnTo>
                <a:lnTo>
                  <a:pt x="409" y="655"/>
                </a:lnTo>
                <a:lnTo>
                  <a:pt x="313" y="415"/>
                </a:lnTo>
                <a:lnTo>
                  <a:pt x="217" y="127"/>
                </a:lnTo>
                <a:cubicBezTo>
                  <a:pt x="187" y="62"/>
                  <a:pt x="156" y="43"/>
                  <a:pt x="132" y="27"/>
                </a:cubicBezTo>
                <a:cubicBezTo>
                  <a:pt x="108" y="11"/>
                  <a:pt x="95" y="0"/>
                  <a:pt x="73" y="31"/>
                </a:cubicBezTo>
                <a:cubicBezTo>
                  <a:pt x="51" y="62"/>
                  <a:pt x="8" y="77"/>
                  <a:pt x="0" y="213"/>
                </a:cubicBezTo>
                <a:lnTo>
                  <a:pt x="25" y="84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00320" y="6095880"/>
            <a:ext cx="163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As </a:t>
            </a: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Mg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“bi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85640" y="6553080"/>
            <a:ext cx="131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As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omic Sans MS"/>
              </a:rPr>
              <a:t>Mg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44 OD (1300 e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Clipped 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67200" y="7086600"/>
            <a:ext cx="252360" cy="1389240"/>
            <a:chOff x="3967200" y="7086600"/>
            <a:chExt cx="252360" cy="1389240"/>
          </a:xfrm>
        </p:grpSpPr>
        <p:pic>
          <p:nvPicPr>
            <p:cNvPr id="211" name="" descr=""/>
            <p:cNvPicPr/>
            <p:nvPr/>
          </p:nvPicPr>
          <p:blipFill>
            <a:blip r:embed="rId5"/>
            <a:stretch/>
          </p:blipFill>
          <p:spPr>
            <a:xfrm>
              <a:off x="4024440" y="7329240"/>
              <a:ext cx="1094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3967200" y="70866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67200" y="82296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018320" y="853452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38080" y="6629400"/>
            <a:ext cx="2952360" cy="2327040"/>
            <a:chOff x="838080" y="6629400"/>
            <a:chExt cx="2952360" cy="2327040"/>
          </a:xfrm>
        </p:grpSpPr>
        <p:pic>
          <p:nvPicPr>
            <p:cNvPr id="216" name="" descr=""/>
            <p:cNvPicPr/>
            <p:nvPr/>
          </p:nvPicPr>
          <p:blipFill>
            <a:blip r:embed="rId6"/>
            <a:stretch/>
          </p:blipFill>
          <p:spPr>
            <a:xfrm>
              <a:off x="838080" y="6629400"/>
              <a:ext cx="2952360" cy="23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1488960" y="8431200"/>
              <a:ext cx="56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509120" y="807732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42640" y="67057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58800" y="670572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</a:rPr>
              <a:t>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4480" y="3276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685800"/>
            <a:ext cx="2743200" cy="1981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284360" y="7086600"/>
            <a:ext cx="372960" cy="1389240"/>
            <a:chOff x="4284360" y="7086600"/>
            <a:chExt cx="372960" cy="1389240"/>
          </a:xfrm>
        </p:grpSpPr>
        <p:sp>
          <p:nvSpPr>
            <p:cNvPr id="224" name=""/>
            <p:cNvSpPr/>
            <p:nvPr/>
          </p:nvSpPr>
          <p:spPr>
            <a:xfrm>
              <a:off x="4284360" y="7086600"/>
              <a:ext cx="36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1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04960" y="82296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7"/>
            <a:stretch/>
          </p:blipFill>
          <p:spPr>
            <a:xfrm>
              <a:off x="4433760" y="7331040"/>
              <a:ext cx="10944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21:04:28Z</dcterms:created>
  <dc:creator>aph</dc:creator>
  <dc:description/>
  <dc:language>en-US</dc:language>
  <cp:lastModifiedBy>Adam Hitchcock</cp:lastModifiedBy>
  <dcterms:modified xsi:type="dcterms:W3CDTF">2023-05-07T20:49:06Z</dcterms:modified>
  <cp:revision>54</cp:revision>
  <dc:subject/>
  <dc:title>Fig. 1</dc:title>
</cp:coreProperties>
</file>