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40B236-B415-426B-8FE3-E2B5BE020AC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CB37DF-0363-4547-BAD3-981AD3438C0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4CFC96-06AD-4566-9B68-C91B27D64D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0BE733-0333-4F65-B3EF-42374282459B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24FD2F-D1EB-4D0F-8CE9-487626EFC0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A4EE8E-986A-4A63-B407-3755E792E0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0D77A-50D4-42D1-BC33-4CF1B65009C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1F7711-6747-4B5F-87C6-FF906B01ABB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-360" y="-168120"/>
            <a:ext cx="4551480" cy="3827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EBCEBB-DF54-44FC-B182-6086F624B23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18C63B-B79B-44BB-989C-D53EA698A9D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36D8F8A-0BFF-457A-872A-8CA63889074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4D0DC8-6692-48F2-8B82-5050124113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455148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6934320" y="6533640"/>
            <a:ext cx="213336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91D4C-2AFE-4A5D-BE1E-4F18AE1276BF}" type="slidenum">
              <a:rPr b="0" lang="en-US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0" y="-179280"/>
            <a:ext cx="4091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Improving output of images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40" name=""/>
          <p:cNvSpPr/>
          <p:nvPr/>
        </p:nvSpPr>
        <p:spPr>
          <a:xfrm>
            <a:off x="152280" y="685800"/>
            <a:ext cx="8991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Comic Sans MS"/>
              </a:rPr>
              <a:t>Xiaohui Zhu, Adam Hitchcock 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(McMaster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/>
          <p:nvPr/>
        </p:nvSpPr>
        <p:spPr>
          <a:xfrm>
            <a:off x="238680" y="6504120"/>
            <a:ext cx="402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mic Sans MS"/>
              </a:rPr>
              <a:t>Writing_high_quality_images_from_IDL.ppt  20-Oct-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97800" y="1300320"/>
            <a:ext cx="8142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GOALS:</a:t>
            </a:r>
            <a:r>
              <a:rPr b="0" lang="en-US" sz="1600" spc="-1" strike="noStrike">
                <a:solidFill>
                  <a:srgbClr val="000000"/>
                </a:solidFill>
                <a:latin typeface="Comic Sans MS"/>
              </a:rPr>
              <a:t>  save a graphical image file that preserves ALL of the quality of the images </a:t>
            </a:r>
            <a:r>
              <a:rPr b="1" lang="en-US" sz="16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452F9F-6991-48A4-852F-42F486226E5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-168120"/>
            <a:ext cx="134604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example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2119320"/>
            <a:ext cx="3746520" cy="473868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212760" y="547560"/>
            <a:ext cx="82454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013-mag-cell.axb;  data is [671,847).  If use any of the image writers in aXis2000 they only get the data in the Main window display, which in most cases is 360*SCL maximum dimension , where SCL is the scale factor in axis_win.ini.  So for this data you need SCL = 2.4 to get all the pixel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271800" y="1614600"/>
            <a:ext cx="4551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mic Sans MS"/>
              </a:rPr>
              <a:t>Tvscl, a.d  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where a=axb_load(file=‘013-mag-cell.axb’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240120" y="1309680"/>
            <a:ext cx="1375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creen shot o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rcRect l="14502" t="11126" r="14754" b="2616"/>
          <a:stretch/>
        </p:blipFill>
        <p:spPr>
          <a:xfrm>
            <a:off x="4038480" y="2362320"/>
            <a:ext cx="2124360" cy="274320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438280" y="3686040"/>
            <a:ext cx="762120" cy="838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3"/>
          <a:stretch/>
        </p:blipFill>
        <p:spPr>
          <a:xfrm>
            <a:off x="6697800" y="2286000"/>
            <a:ext cx="2344680" cy="281952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878880" y="5410080"/>
            <a:ext cx="22060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Same area i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ptycho-mtb-figure_02.tif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561BA1-2B6E-46DB-8BCD-D8354AED2CA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0" y="-168120"/>
            <a:ext cx="5170320" cy="8254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Using ILD command line processing</a:t>
            </a:r>
            <a:endParaRPr b="0" lang="en-US" sz="2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53" name=""/>
          <p:cNvSpPr/>
          <p:nvPr/>
        </p:nvSpPr>
        <p:spPr>
          <a:xfrm>
            <a:off x="340560" y="609480"/>
            <a:ext cx="7139160" cy="201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a=axb_load(file=‘013-mag-cell.axb’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q=a.d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the data arra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r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g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b=indgen(256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scl = 255/(max(q)-min(q)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scale the data to fill 0-255 (8-bi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e = fix((q-min(q))*scl)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; convert scaled data (full range) to by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DL&gt; write_png, 'test.png', e,  r, g ,b            ; writes a loss-less png 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457200" y="2514600"/>
            <a:ext cx="3316320" cy="418608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4120200" y="2590920"/>
            <a:ext cx="166680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Is it any better ??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2"/>
          <a:stretch/>
        </p:blipFill>
        <p:spPr>
          <a:xfrm>
            <a:off x="3962520" y="3352680"/>
            <a:ext cx="2276280" cy="224820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590920" y="3962520"/>
            <a:ext cx="609480" cy="6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3"/>
          <a:srcRect l="14502" t="11126" r="14754" b="2616"/>
          <a:stretch/>
        </p:blipFill>
        <p:spPr>
          <a:xfrm>
            <a:off x="6629400" y="3352680"/>
            <a:ext cx="1770120" cy="228600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4049280" y="6033960"/>
            <a:ext cx="198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mic Sans MS"/>
              </a:rPr>
              <a:t>At least it is as good !!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43A9F0-10C8-438C-9EA6-BFC21A13C46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6T06:38:15Z</dcterms:created>
  <dc:creator>Adam Hitchcock</dc:creator>
  <dc:description/>
  <dc:language>en-US</dc:language>
  <cp:lastModifiedBy>aph</cp:lastModifiedBy>
  <dcterms:modified xsi:type="dcterms:W3CDTF">2016-10-21T17:15:46Z</dcterms:modified>
  <cp:revision>33</cp:revision>
  <dc:subject/>
  <dc:title>Slide 1</dc:title>
</cp:coreProperties>
</file>