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0C6-A777-4BEC-9C9E-DA965AA9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EBC-AF64-4A8C-A369-38580800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95C-FE17-4BB9-B0D2-48314DB7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D87-55A1-4C74-A78E-943CBBC0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089-6B67-486C-A9C3-D048FE4E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090-CB19-4A8B-B732-6363D43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17D-5CAB-46C3-81DA-FE0374D0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B3D-C64F-482F-8870-94A14822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6B5-8265-4617-8C5E-4C407516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F27-170A-411E-A6CD-BD65F36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84E-02ED-412F-A3B7-F2875B1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8D9-34B6-4E9E-80F2-9164AD3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CA34-6209-48FF-87E2-333942C80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349960" cy="590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8972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81280" y="1504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6520" y="1484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36655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4076640"/>
            <a:ext cx="12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caled olor com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tri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PIP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S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560" y="7840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68960" y="1846440"/>
            <a:ext cx="3767040" cy="386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360" y="1364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65320" y="1773360"/>
            <a:ext cx="2186280" cy="412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67680" y="1504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5440" y="1486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7480" y="155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2492280"/>
            <a:ext cx="2340000" cy="243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83120" y="4365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6760" y="3213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86040" y="2492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3284640"/>
            <a:ext cx="431640" cy="21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04960" y="3862440"/>
            <a:ext cx="432000" cy="71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6600" y="4292640"/>
            <a:ext cx="431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760" y="1865160"/>
            <a:ext cx="27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eference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355-linescan-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0" y="1557360"/>
            <a:ext cx="8964360" cy="439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1T02:44:29Z</dcterms:created>
  <dc:creator>Adam Hitchcock</dc:creator>
  <dc:description/>
  <dc:language>en-US</dc:language>
  <cp:lastModifiedBy>Adam Hitchcock</cp:lastModifiedBy>
  <dcterms:modified xsi:type="dcterms:W3CDTF">2023-01-11T21:48:16Z</dcterms:modified>
  <cp:revision>2</cp:revision>
  <dc:subject/>
  <dc:title>Slide 1</dc:title>
</cp:coreProperties>
</file>