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785-94C5-4A0A-9DA4-518C8D7F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5D0-4BDD-4C75-B947-F7DF3B67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70B-0735-4098-B9E5-20B4EBAC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A27C-A06B-441C-920F-38628AF1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B80-E2B1-46E6-A239-91B55139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B62-1E1C-45D0-8FF6-6A40DE6B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2ED-4B88-4D0B-983E-79B0AB2F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AE9-486F-4473-AC06-1BFC297A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CA4-DB05-4936-B843-3561E09E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675-2574-4749-AA59-9EF78626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CAF-A09C-4099-AB97-F36F0F24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B19-96F7-4982-A001-145DC790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C8D6-88E1-422C-A066-1EE409149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349960" cy="590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897280" y="1504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81280" y="1504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6520" y="1484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46720" y="36655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4076640"/>
            <a:ext cx="12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caled olor com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trix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PIP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S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560" y="7840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68960" y="1846440"/>
            <a:ext cx="3767040" cy="3860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6360" y="1364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65320" y="1773360"/>
            <a:ext cx="2186280" cy="412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67680" y="1504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5440" y="14860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07480" y="1557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28600" y="2492280"/>
            <a:ext cx="2340000" cy="243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83120" y="43657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86760" y="3213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86040" y="2492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76600" y="3284640"/>
            <a:ext cx="431640" cy="215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04960" y="3862440"/>
            <a:ext cx="432000" cy="71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76600" y="4292640"/>
            <a:ext cx="43164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760" y="1865160"/>
            <a:ext cx="278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reference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355-linescan-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0" y="1557360"/>
            <a:ext cx="8964360" cy="4392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1T02:44:29Z</dcterms:created>
  <dc:creator>Adam Hitchcock</dc:creator>
  <dc:description/>
  <dc:language>en-US</dc:language>
  <cp:lastModifiedBy>Adam Hitchcock</cp:lastModifiedBy>
  <dcterms:modified xsi:type="dcterms:W3CDTF">2023-01-11T21:48:16Z</dcterms:modified>
  <cp:revision>2</cp:revision>
  <dc:subject/>
  <dc:title>Slide 1</dc:title>
</cp:coreProperties>
</file>